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A46-9590-4ADE-B9E4-F318960C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A502-79A9-4D03-ADCB-BFF91986D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A5C-6150-445F-AAE1-CBCEBE87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1EC-4AA7-4269-9FE3-A7268EB7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D7E-3A1A-4910-9196-25BDB377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956-47FF-473C-9BFC-C26C7F59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2E8-2CD9-489F-B1D1-5B7DD51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C6D-D86A-4AFE-9FC1-C27F907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BA0-3D07-4FF9-9FD0-B06FF1B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411-A97E-4C6D-A4CD-C9256D98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B35-E6C6-493B-B202-1C64207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826-1CDD-492A-980A-C972B3A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0F4-B406-4CA3-8723-7C2B833E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929-ABF5-4442-A6F7-09566684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5E51-BC44-4901-BAB6-A5A0A8D0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etika Ku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eetika Kuma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eetika Ku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eetika Ku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055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800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81280"/>
            <a:ext cx="2057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s amigos! Me llamo Geetika. Estoy gracioso, linda, y joven.Yo vivo en Astoria, New York. Tengo catorce años. Me uno hermano, y se llama Tanish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81480"/>
            <a:ext cx="64800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864400"/>
            <a:ext cx="543240" cy="785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352520" y="5334120"/>
            <a:ext cx="43992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295280" y="5562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"/>
          <p:cNvPicPr/>
          <p:nvPr/>
        </p:nvPicPr>
        <p:blipFill>
          <a:blip r:embed="rId5"/>
          <a:stretch/>
        </p:blipFill>
        <p:spPr>
          <a:xfrm>
            <a:off x="2163600" y="2511360"/>
            <a:ext cx="487440" cy="12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"/>
          <p:cNvPicPr/>
          <p:nvPr/>
        </p:nvPicPr>
        <p:blipFill>
          <a:blip r:embed="rId7"/>
          <a:stretch/>
        </p:blipFill>
        <p:spPr>
          <a:xfrm>
            <a:off x="2163600" y="3809880"/>
            <a:ext cx="446400" cy="1122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09880"/>
            <a:ext cx="3429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 gusta aprender español. ¿Puedes abrir la caja yo dio tu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12408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cho gusto! ¿Como eres tu? Usted esta bonita!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as so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iñas! Ella es flaca. ¿Cuantos años tien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estamos comer helad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19720"/>
            <a:ext cx="3733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Por que preguntas mucho interoggativas? Mi hermano y herma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nes helado. Mis hermanos quieren vainilla helados. Yo olunt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minar a tus casa. Sus hermanas son molest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"/>
          <p:cNvPicPr/>
          <p:nvPr/>
        </p:nvPicPr>
        <p:blipFill>
          <a:blip r:embed="rId9"/>
          <a:stretch/>
        </p:blipFill>
        <p:spPr>
          <a:xfrm>
            <a:off x="2084400" y="5181480"/>
            <a:ext cx="525600" cy="1322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334120"/>
            <a:ext cx="44197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 ¿Bien y tu? Arrepentido yo no responder. ¿por qué quienes hela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nes quiere helados?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soy hambr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172200"/>
            <a:ext cx="4038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 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mo estas? ¿Tienes helado? Yo necesidad estudi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8672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24852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2892600" y="2879640"/>
            <a:ext cx="2286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1350361690236 (1).jpg"/>
          <p:cNvPicPr/>
          <p:nvPr/>
        </p:nvPicPr>
        <p:blipFill>
          <a:blip r:embed="rId12"/>
          <a:stretch/>
        </p:blipFill>
        <p:spPr>
          <a:xfrm>
            <a:off x="228600" y="609480"/>
            <a:ext cx="1295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9:18Z</dcterms:modified>
  <cp:revision>124</cp:revision>
  <dc:subject/>
  <dc:title>Profile</dc:title>
</cp:coreProperties>
</file>